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.gif" ContentType="image/gif"/>
  <Override PartName="/ppt/media/image12.wmf" ContentType="image/x-wmf"/>
  <Override PartName="/ppt/media/image7.wmf" ContentType="image/x-wmf"/>
  <Override PartName="/ppt/media/image32.wmf" ContentType="image/x-wmf"/>
  <Override PartName="/ppt/media/image8.wmf" ContentType="image/x-wmf"/>
  <Override PartName="/ppt/media/image25.wmf" ContentType="image/x-wmf"/>
  <Override PartName="/ppt/media/image9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image30.wmf" ContentType="image/x-wmf"/>
  <Override PartName="/ppt/media/image5.wmf" ContentType="image/x-wmf"/>
  <Override PartName="/ppt/media/zipdn102.wav" ContentType="audio/x-wav"/>
  <Override PartName="/ppt/media/image27.wmf" ContentType="image/x-wmf"/>
  <Override PartName="/ppt/media/image4.wmf" ContentType="image/x-wmf"/>
  <Override PartName="/ppt/media/image10.wmf" ContentType="image/x-wmf"/>
  <Override PartName="/ppt/media/image2.gif" ContentType="image/gif"/>
  <Override PartName="/ppt/media/image13.wmf" ContentType="image/x-wmf"/>
  <Override PartName="/ppt/media/image14.wmf" ContentType="image/x-wmf"/>
  <Override PartName="/ppt/media/LASER.WAV" ContentType="audio/x-wav"/>
  <Override PartName="/ppt/media/image29.wmf" ContentType="image/x-wmf"/>
  <Override PartName="/ppt/media/WHOOSH.WAV" ContentType="audio/x-wav"/>
  <Override PartName="/ppt/media/image16.wmf" ContentType="image/x-wmf"/>
  <Override PartName="/ppt/media/CAMERA.WAV" ContentType="audio/x-wav"/>
  <Override PartName="/ppt/media/image24.wmf" ContentType="image/x-wmf"/>
  <Override PartName="/ppt/media/GUNSHOT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27B-DA7F-49DE-AB7B-0BC6583E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2DB-B8E5-4F04-B97C-2FD395D3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456-72C3-4A93-AE6D-B9708138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246-A5CB-4C8F-835B-629E54B7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0CB-5094-4250-9074-0CE105F9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9C5-F826-4755-9DFD-AB54432C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ABD-B2F0-4168-85C1-15118760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F33-37BB-45DE-9F95-613CF0E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BA4-3AC7-4E4E-B41D-E910D69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1E1-D884-4175-8838-8E8A48E8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D1B-98A9-4375-94CA-C585038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6C4-B162-4A7F-875F-4CA8A99C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EB9F-83C7-4AE1-9DC5-795DD7017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zipdn10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GUNSHOT.WAV"/><Relationship Id="rId30" Type="http://schemas.openxmlformats.org/officeDocument/2006/relationships/audio" Target="../media/LASER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GUNSHOT.WAV"/><Relationship Id="rId34" Type="http://schemas.openxmlformats.org/officeDocument/2006/relationships/audio" Target="../media/LASER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GUNSHOT.WAV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audio" Target="../media/LASER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GUNSHOT.WAV"/><Relationship Id="rId29" Type="http://schemas.openxmlformats.org/officeDocument/2006/relationships/audio" Target="../media/LASER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GUNSHOT.WAV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GUNSHOT.WAV"/><Relationship Id="rId21" Type="http://schemas.openxmlformats.org/officeDocument/2006/relationships/audio" Target="../media/LASER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GUNSHOT.WAV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0840" y="885960"/>
            <a:ext cx="3705120" cy="409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69000" y="2535120"/>
            <a:ext cx="3240000" cy="405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98960" y="1338120"/>
            <a:ext cx="45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’s time to stop “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aydream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9520" y="5083200"/>
            <a:ext cx="45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tart applying “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mental ma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762120"/>
            <a:ext cx="9144000" cy="977760"/>
            <a:chOff x="0" y="762120"/>
            <a:chExt cx="9144000" cy="977760"/>
          </a:xfrm>
        </p:grpSpPr>
        <p:sp>
          <p:nvSpPr>
            <p:cNvPr id="48" name=""/>
            <p:cNvSpPr/>
            <p:nvPr/>
          </p:nvSpPr>
          <p:spPr>
            <a:xfrm>
              <a:off x="0" y="76212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219320"/>
              <a:ext cx="853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Evaluat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work it out using order of operation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476280" y="1752480"/>
          <a:ext cx="320832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752480"/>
                    <a:ext cx="32083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467000" y="2362320"/>
          <a:ext cx="677880" cy="5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7000" y="2362320"/>
                    <a:ext cx="6778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828800" y="2895480"/>
          <a:ext cx="72216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895480"/>
                    <a:ext cx="7221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76280" y="3429000"/>
          <a:ext cx="2846520" cy="53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3429000"/>
                    <a:ext cx="28465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924200" y="3962520"/>
          <a:ext cx="44604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24200" y="3962520"/>
                    <a:ext cx="4460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52800" y="4419720"/>
          <a:ext cx="48420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52800" y="4419720"/>
                    <a:ext cx="484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076480" y="2362320"/>
          <a:ext cx="762120" cy="53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76480" y="2362320"/>
                    <a:ext cx="7621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28760" y="3962520"/>
          <a:ext cx="677880" cy="53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28760" y="3962520"/>
                    <a:ext cx="6778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52600" y="4952880"/>
          <a:ext cx="2751120" cy="53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2600" y="4952880"/>
                    <a:ext cx="27511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305080" y="5486400"/>
          <a:ext cx="677880" cy="536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05080" y="5486400"/>
                    <a:ext cx="6778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11440" y="5981760"/>
          <a:ext cx="757080" cy="64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11440" y="5981760"/>
                    <a:ext cx="757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314360" y="5486400"/>
          <a:ext cx="1079640" cy="536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14360" y="5486400"/>
                    <a:ext cx="10796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85800" y="1636560"/>
                <a:ext cx="312408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1676520" y="2286000"/>
          <a:ext cx="20714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20714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105520" y="2362320"/>
          <a:ext cx="13827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362320"/>
                    <a:ext cx="1382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5800" y="3048120"/>
                <a:ext cx="41004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3" name=""/>
          <p:cNvGraphicFramePr/>
          <p:nvPr/>
        </p:nvGraphicFramePr>
        <p:xfrm>
          <a:off x="1371600" y="3781440"/>
          <a:ext cx="228600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781440"/>
                    <a:ext cx="22860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334120" y="3733920"/>
          <a:ext cx="9792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733920"/>
                    <a:ext cx="979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429000" y="2438280"/>
          <a:ext cx="2071800" cy="53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2438280"/>
                    <a:ext cx="20718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657600" y="3809880"/>
          <a:ext cx="1714680" cy="56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7600" y="3809880"/>
                    <a:ext cx="17146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5800" y="4572000"/>
                <a:ext cx="4959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2057400" y="5257800"/>
          <a:ext cx="113652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7400" y="5257800"/>
                    <a:ext cx="11365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33920" y="5943600"/>
          <a:ext cx="979200" cy="647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33920" y="5943600"/>
                    <a:ext cx="979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86160" y="5943600"/>
          <a:ext cx="1184040" cy="566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86160" y="5943600"/>
                    <a:ext cx="1184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124080" y="5257800"/>
          <a:ext cx="1136880" cy="566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5257800"/>
                    <a:ext cx="1136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47720" y="1663560"/>
                <a:ext cx="31068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19320" y="2340000"/>
                <a:ext cx="236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5" name=""/>
          <p:cNvGraphicFramePr/>
          <p:nvPr/>
        </p:nvGraphicFramePr>
        <p:xfrm>
          <a:off x="5275440" y="2362320"/>
          <a:ext cx="10411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5440" y="2362320"/>
                    <a:ext cx="1041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31800" y="3062160"/>
                <a:ext cx="44766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÷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8" name=""/>
          <p:cNvGraphicFramePr/>
          <p:nvPr/>
        </p:nvGraphicFramePr>
        <p:xfrm>
          <a:off x="1832040" y="3781440"/>
          <a:ext cx="121284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2040" y="3781440"/>
                    <a:ext cx="12128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429000" y="3809880"/>
          <a:ext cx="135396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809880"/>
                    <a:ext cx="13539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519360" y="2373480"/>
          <a:ext cx="2119320" cy="59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2373480"/>
                    <a:ext cx="21193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44400" y="4518000"/>
                <a:ext cx="45133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51000" y="5251320"/>
                <a:ext cx="31384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4929120" y="5943600"/>
          <a:ext cx="102708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29120" y="5943600"/>
                    <a:ext cx="1027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367080" y="5943600"/>
          <a:ext cx="161280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67080" y="5943600"/>
                    <a:ext cx="16128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95280" y="5943600"/>
          <a:ext cx="204156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5943600"/>
                    <a:ext cx="20415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971800" y="3809880"/>
          <a:ext cx="450720" cy="604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3809880"/>
                    <a:ext cx="450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 SKELTON</cp:lastModifiedBy>
  <dcterms:modified xsi:type="dcterms:W3CDTF">2004-09-11T20:43:38Z</dcterms:modified>
  <cp:revision>23</cp:revision>
  <dc:subject/>
  <dc:title>No Slide Title</dc:title>
</cp:coreProperties>
</file>